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998-5568-41EE-9368-F8F0E70F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0A9-3296-4F0D-977F-2164F7FF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6FC-390F-4335-A498-2C79F99F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B59-37E8-41EF-8F9F-72424B10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587F-9873-47B0-97F5-8FC57382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1770-9690-495E-A643-EEA7D3D6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3A48-8AC4-44E6-8CDF-8AA6F64B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2983-D2D3-4E79-A708-65C9F4D7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B16B-246F-4722-A1C1-CD8B6FFB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323E-C52C-4508-B367-35C15844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05EA-287D-42EC-98B1-34640BED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66A-DC11-4921-869C-0BDAE8C0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9E71-0BAE-47A2-B7B3-A3B0CCBF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B689-FBA0-4B01-871A-42A6F5FB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6608-9604-483D-B1F2-AE93CEDF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6EE2-8E44-41BE-B648-4B0689E9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25A5-0BD5-4DCD-B9FD-AD51834B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5E5-E518-4DD3-9DAF-4E6610AB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733-FF2B-470B-9DC1-B3C27FD5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2D0-4D04-4352-A851-CD7E6A39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A89-E92E-4268-A50B-A9DCDC04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72E-98D5-4453-8511-FFDA8D12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548-6876-4493-821D-D4ABE31E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3A9-B65B-4CFA-A320-65A80BBC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582DC-35EA-4726-AF26-9A787C7E03B2}" type="datetime">
              <a:rPr b="0" lang="en-US" sz="14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D8BAD-3900-448C-A0E3-D4CE16998C02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DB8EB-159E-4FB4-AFEE-87F53BA9DD38}" type="datetime">
              <a:rPr b="0" lang="en-US" sz="1400" spc="-1" strike="noStrike">
                <a:solidFill>
                  <a:srgbClr val="ffffff"/>
                </a:solidFill>
                <a:latin typeface="Verdan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8AFA7-1FF5-419A-997E-D0B089285ED4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ff20"/>
                </a:solidFill>
                <a:latin typeface="Gill Sans Ultra Bold"/>
              </a:rPr>
              <a:t>Objects in the Ey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276360" y="3979800"/>
            <a:ext cx="485748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ff20"/>
                </a:solidFill>
                <a:latin typeface="Verdana"/>
              </a:rPr>
              <a:t>By Daniel Rittenho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2361960" cy="1920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943280" y="39798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501480"/>
            <a:ext cx="95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1784520" y="116208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120b"/>
                </a:solidFill>
                <a:latin typeface="Arial Black"/>
              </a:rPr>
              <a:t>First Aid for Objects in the Ey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1548000" y="3429000"/>
            <a:ext cx="57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1b"/>
                </a:solidFill>
                <a:latin typeface="Arial Black"/>
              </a:rPr>
              <a:t>Do not rub the Eye, this can make things wor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95280" y="3825720"/>
            <a:ext cx="1457280" cy="14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46200" y="1481040"/>
            <a:ext cx="59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If the object is under the upper eye lid, pull the lid up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with a cotton swab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476720" y="2971800"/>
            <a:ext cx="52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Do the same if the object is under the lower li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698840" y="4343400"/>
            <a:ext cx="54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Then take a handkerchief that is moist and clea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With water, flood the ey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76440" y="3505320"/>
            <a:ext cx="60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If the object can’t be removed, or if the pain continues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try to get a dry clean bandage and cover the ey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Then get medical help quickly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flipH="1">
            <a:off x="1071720" y="1600200"/>
            <a:ext cx="2735280" cy="969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447920" y="1066680"/>
            <a:ext cx="2039760" cy="20401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3:00:17Z</dcterms:created>
  <dc:creator>kms kms</dc:creator>
  <dc:description/>
  <dc:language>en-US</dc:language>
  <cp:lastModifiedBy>Kraybill Campus LMS</cp:lastModifiedBy>
  <dcterms:modified xsi:type="dcterms:W3CDTF">2011-05-26T16:19:29Z</dcterms:modified>
  <cp:revision>6</cp:revision>
  <dc:subject/>
  <dc:title>Objects in the Eye</dc:title>
</cp:coreProperties>
</file>